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9623-DFC6-45AB-9EB0-4DEC18231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1250-E9BE-4542-9794-A22CDD4C3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3A5D-1E4E-455A-82A0-CFA9318C2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5C61-457F-4FB4-A9D6-C9E9CC21B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980A-7369-4C63-BAAA-E0ABC8200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D031-20CE-4110-9F26-60AB5DB94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7C3E-06A3-4546-8E0F-36F77D72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A21E-A4FB-4A93-B0A3-8B0B0204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D46-8005-4CD5-B69E-7F966221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060D-3990-4222-AF8C-5FC6D150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687-1753-4C46-9754-E78570CB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C5C4-B416-499A-9B50-E86438D3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E81-3041-4A0D-BFE1-F4B5B413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705-124A-4637-B7B6-8241A54F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C5E-81BF-4CEA-AC78-95B9D606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62B-1372-486D-8575-AC784347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C5D7-C9D0-404D-B963-79325DF3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A1B3-47D8-4AA3-B496-70373F76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BA18-2EC6-43C3-A6C4-269447CD5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ED 502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 &amp; Science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ed 5021 Math &amp; Science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e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e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 re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1752480" y="4495680"/>
            <a:ext cx="5715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How do children learn?</a:t>
            </a:r>
            <a:endParaRPr b="0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2449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 learn in order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problems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nstruct patterns and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mo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earn through experien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earn in order to reduce the cognitive complexity of our liv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earn patterns that encompass particula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your math curriculum like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t in Detroit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n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nce 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 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 of mar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z d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wooden poles 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cond n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ld c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ball 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ree li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she left behind a wooden door, a box of newspapers, a 5-gallon can of gasoline, a bunch of tires and an AM radio from an old For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ird n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iron p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aluminum 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r ax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garbage cans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icture 1.png"/>
          <p:cNvPicPr/>
          <p:nvPr/>
        </p:nvPicPr>
        <p:blipFill>
          <a:blip r:embed="rId1"/>
          <a:stretch/>
        </p:blipFill>
        <p:spPr>
          <a:xfrm>
            <a:off x="4638600" y="4498920"/>
            <a:ext cx="1712880" cy="2608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657600" y="1143000"/>
            <a:ext cx="5283360" cy="2971800"/>
          </a:xfrm>
          <a:prstGeom prst="rect">
            <a:avLst/>
          </a:prstGeom>
          <a:ln w="12600">
            <a:solidFill>
              <a:srgbClr val="b3b3b3"/>
            </a:solidFill>
            <a:miter/>
          </a:ln>
          <a:effectLst>
            <a:outerShdw dist="101520" dir="5400000" blurRad="0" rotWithShape="0">
              <a:srgbClr val="808080">
                <a:alpha val="4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251320" y="1447920"/>
            <a:ext cx="3892680" cy="2590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t of the sess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mathemat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do in k-8 math? 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 spi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5321160" y="4784760"/>
            <a:ext cx="189072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22:01:12Z</dcterms:created>
  <dc:creator>Seattle University</dc:creator>
  <dc:description/>
  <dc:language>en-US</dc:language>
  <cp:lastModifiedBy>Mark Roddy</cp:lastModifiedBy>
  <cp:lastPrinted>2008-03-04T19:40:59Z</cp:lastPrinted>
  <dcterms:modified xsi:type="dcterms:W3CDTF">2015-03-04T01:58:43Z</dcterms:modified>
  <cp:revision>17</cp:revision>
  <dc:subject/>
  <dc:title>TEED 521 Math &amp; Science Methods</dc:title>
</cp:coreProperties>
</file>